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8F2F19-C5B3-4AAD-973C-E8BAF9300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DEC13AB-C23C-4A84-9084-8CCD222F6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5E1B60A-3D53-483D-AB71-1AF9A33F2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8D401A3-07F6-47F6-84D1-A3E13403C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20559F4-D3D3-40C0-A89E-899E3D674A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33768AE-1DF4-43DF-B77A-E9FE54742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DF97C82-33E9-41C1-A658-14B71B55F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03BEFAA-14E3-47E0-ACBE-E95188B59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D9C4CDE-5765-4873-BA9F-0F74D0DDD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E077-B474-470A-BB5C-D28B6937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75B-D4B7-4D83-BA13-6AB33699A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916-D6E5-4051-9277-00F68442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228-CA42-478B-98DD-00035B1E5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7934-0DC9-4A3F-B0C4-D9665B6C5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890-E014-4015-9C70-FAEFF8BB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D2C4-8D8D-4692-A5D0-1DE54E90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160D-DD96-4D7B-AC21-17D61E69C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A4F8-5B4A-468C-9A02-B71EB414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E82-9031-457B-A8A3-03FC2117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687-A2B9-4F7C-B12A-45BA1B7B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CE12-BE78-48FC-94F7-78B28338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-WBKGD1"/>
          <p:cNvPicPr/>
          <p:nvPr/>
        </p:nvPicPr>
        <p:blipFill>
          <a:blip r:embed="rId2"/>
          <a:srcRect l="0" t="0" r="0" b="197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3FB4-CF6A-41C3-AEC7-F3BF1CB06B6E}" type="slidenum"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6" name="Picture 9" descr="CGLOGO"/>
          <p:cNvPicPr/>
          <p:nvPr/>
        </p:nvPicPr>
        <p:blipFill>
          <a:blip r:embed="rId3"/>
          <a:stretch/>
        </p:blipFill>
        <p:spPr>
          <a:xfrm>
            <a:off x="7772400" y="142920"/>
            <a:ext cx="1371600" cy="1314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IALA%20logo1"/>
          <p:cNvPicPr/>
          <p:nvPr/>
        </p:nvPicPr>
        <p:blipFill>
          <a:blip r:embed="rId4"/>
          <a:srcRect l="0" t="1749" r="831" b="875"/>
          <a:stretch/>
        </p:blipFill>
        <p:spPr>
          <a:xfrm>
            <a:off x="0" y="0"/>
            <a:ext cx="1025640" cy="15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8.wmf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990720"/>
            <a:ext cx="70106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ALA e-Navigation Committe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2120" y="25146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Cai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irman, IALA e-NAV Committe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. Nick 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ce Chair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P2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20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Modeling and Interfac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ter Hooijmans (Netherland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rle Hauge (Norway)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rmation on IALA Participation in IHO GI Registry (output/1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Guideline on Procedures for the Mgmt of IALA Domains under GI Reg (output/1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Guideline on Intro to Preparing S-100 Product Specs (output/1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VTS on IVEF Product Specification (output/3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scellane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380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ort (output/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osed changes to Work Programme (output/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PAP-Strategy on e-Navigation Strategy Items (output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ANM on NAVGUIDE and draft revisions (output/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 for P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 Plan based on Strategy input +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across IALA Committ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 Registry Product Spe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t Specs Worksh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O concern over IALA’s role in e-NA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s “on the bridge” – NAV58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ALA e-NAV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hering place for many projec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na Li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S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od exchange of ideas and free / innovative thinking and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-Navigation Suite; i.e., 7 Pill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6201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-NAV1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720" y="304560"/>
            <a:ext cx="8153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9 registered attende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4 countries, 4 Sister Organizations, 2 Obsv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2 new particip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 output docu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 output documents for approval of Counc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draft Recommendations (+3 Annex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draft Guide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ft revised MRCP and WWR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ouncil Information Pap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workshop propo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liaison notes to other organizations and IALA committ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 Presenta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9140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SEAS – N. 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rayal of AtoN Info on ENCs – D. Lewa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. Implementation of e-NAV – N. Riendea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-Navigation Suite – J-H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 of MSPs – J-H Oltman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IS: Std Data Exchange – R. Hogendoo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IALA adopt S-100 – J.Y. P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A – S. Bennet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bed Portal – T. Pora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evious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-AIS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-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Architecture Techn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Portray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7"/>
          <p:cNvGraphicFramePr/>
          <p:nvPr/>
        </p:nvGraphicFramePr>
        <p:xfrm>
          <a:off x="6553080" y="373392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3733920"/>
                    <a:ext cx="1676520" cy="110016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1" name="Picture 4" descr="AIS"/>
          <p:cNvPicPr/>
          <p:nvPr/>
        </p:nvPicPr>
        <p:blipFill>
          <a:blip r:embed="rId3"/>
          <a:stretch/>
        </p:blipFill>
        <p:spPr>
          <a:xfrm>
            <a:off x="4419720" y="3429000"/>
            <a:ext cx="1523880" cy="11192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6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Object 1"/>
          <p:cNvGraphicFramePr/>
          <p:nvPr/>
        </p:nvGraphicFramePr>
        <p:xfrm>
          <a:off x="4343400" y="5029200"/>
          <a:ext cx="2338560" cy="1598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343400" y="5029200"/>
                    <a:ext cx="233856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3" descr=""/>
          <p:cNvPicPr/>
          <p:nvPr/>
        </p:nvPicPr>
        <p:blipFill>
          <a:blip r:embed="rId8"/>
          <a:stretch/>
        </p:blipFill>
        <p:spPr>
          <a:xfrm>
            <a:off x="6934320" y="5448240"/>
            <a:ext cx="2209680" cy="1409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vised e-NAV WG Structur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-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rayal 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- P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/4-AIS &amp; Commun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Technical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- Data Modeling &amp; Interfa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Object 7"/>
          <p:cNvGraphicFramePr/>
          <p:nvPr/>
        </p:nvGraphicFramePr>
        <p:xfrm>
          <a:off x="5715000" y="3200400"/>
          <a:ext cx="167652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200400"/>
                    <a:ext cx="167652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Picture 4" descr="AIS"/>
          <p:cNvPicPr/>
          <p:nvPr/>
        </p:nvPicPr>
        <p:blipFill>
          <a:blip r:embed="rId3"/>
          <a:stretch/>
        </p:blipFill>
        <p:spPr>
          <a:xfrm>
            <a:off x="4267080" y="3200400"/>
            <a:ext cx="1524240" cy="1119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4"/>
          <a:stretch/>
        </p:blipFill>
        <p:spPr>
          <a:xfrm>
            <a:off x="5867280" y="2133720"/>
            <a:ext cx="1828800" cy="1306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North Pacific heavy weather 02"/>
          <p:cNvPicPr/>
          <p:nvPr/>
        </p:nvPicPr>
        <p:blipFill>
          <a:blip r:embed="rId5"/>
          <a:stretch/>
        </p:blipFill>
        <p:spPr>
          <a:xfrm>
            <a:off x="3886200" y="1600200"/>
            <a:ext cx="1676520" cy="1144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Object 1"/>
          <p:cNvGraphicFramePr/>
          <p:nvPr/>
        </p:nvGraphicFramePr>
        <p:xfrm>
          <a:off x="4952880" y="4267080"/>
          <a:ext cx="1957680" cy="1338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5" name="Object 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952880" y="4267080"/>
                    <a:ext cx="195768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6" name="Picture 3" descr=""/>
          <p:cNvPicPr/>
          <p:nvPr/>
        </p:nvPicPr>
        <p:blipFill>
          <a:blip r:embed="rId8"/>
          <a:stretch/>
        </p:blipFill>
        <p:spPr>
          <a:xfrm>
            <a:off x="5410080" y="1600200"/>
            <a:ext cx="947880" cy="11430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vid Patraiko (Nautical Institute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Mahesh Alimchandani (Australi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IMO CG on e-NAV (output/4,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dated e-Navigation FAQs (output/2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Guideline on Harmonized Portrayal of e-Navigation Info (output/31, 3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EEP on e-NAV (output/7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to ANM on Risk Mgmt (output/8, 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North Pacific heavy weather 02"/>
          <p:cNvPicPr/>
          <p:nvPr/>
        </p:nvPicPr>
        <p:blipFill>
          <a:blip r:embed="rId1"/>
          <a:stretch/>
        </p:blipFill>
        <p:spPr>
          <a:xfrm>
            <a:off x="7315200" y="4648320"/>
            <a:ext cx="1606680" cy="109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NT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7621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an Grant (UK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in Day (Ir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revised Recommendation R-129 on GNSS Vulnerability and Mitigation Measures (output/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ised WWRN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aison note to EEP, WWA on WWA L2 Model Course Module 9 RNav (output/29, 29 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6248520" y="5465880"/>
            <a:ext cx="2895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AIS"/>
          <p:cNvPicPr/>
          <p:nvPr/>
        </p:nvPicPr>
        <p:blipFill>
          <a:blip r:embed="rId1"/>
          <a:stretch/>
        </p:blipFill>
        <p:spPr>
          <a:xfrm>
            <a:off x="7238880" y="5451480"/>
            <a:ext cx="1905120" cy="14652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S &amp; Co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6324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lf Zetterberg (Swed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ll Kautz (USA)  (apolog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ised IALA Rec. A-124 with Appendices  (outputs/20-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. MRCP and Liaison note to ITU-R  (output/15, 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aison Note to ITU WP5B on WRC 1.15 and 1.16 (output/1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ft Rev. of Rec. ITU-R M.1371-4 and Liaison Note to ITU-R (output/18, 19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7238880" y="4191120"/>
          <a:ext cx="190512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38880" y="4191120"/>
                    <a:ext cx="190512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-Hendrik Oltmann (German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ul Mueller (Tidelan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raft Information paper on the Architecture for the Provision of e-Navigation Services as seen from Ashore (output/2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Object 1"/>
          <p:cNvGraphicFramePr/>
          <p:nvPr/>
        </p:nvGraphicFramePr>
        <p:xfrm>
          <a:off x="5867280" y="4807080"/>
          <a:ext cx="3159360" cy="20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807080"/>
                    <a:ext cx="315936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7T15:53:10Z</dcterms:created>
  <dc:creator>nickw</dc:creator>
  <dc:description/>
  <dc:language>en-US</dc:language>
  <cp:lastModifiedBy>William R Cairns</cp:lastModifiedBy>
  <dcterms:modified xsi:type="dcterms:W3CDTF">2012-10-15T12:51:43Z</dcterms:modified>
  <cp:revision>117</cp:revision>
  <dc:subject/>
  <dc:title>PowerPoint Presentation</dc:title>
</cp:coreProperties>
</file>